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rebiotic-associated changes in the gut microbiota. DGGE fingerprint patterns of the caecal microbial community of selected ob/ob mice fed a normal-diet (Ob-CT, white symbols), non-prebiotic control diet (Ob-Cell, grey symbols) or prebiotic diet (Ob-Pre, black symbols) for 5 weeks. The DGGE profiles were constructed using primers for (A) Total bacteria (B) Bifidobacterium spp (C) Lactobacillus spp. Cluster analysis is based on the Pearson product–moment correlation coefficient and UPGMA linkage. (D) Three-dimensional multidimensional scaling analysis conducted on the DGGE fingerprinting composite data set (total bacteria, Bifidobacterium spp. and Lactobacillus spp). CT, Cell and Pre respectively refer to the selected ob/ob mice fed a normal-diet, non-prebiotic control diet or prebiotic diet for 5 weeks. DGGE, denaturing gradient gel electrophoresis; UPGMA, unweighted pair group method with arithmetic mean clustering algorith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rebiotic treatment reduces intestinal permeability. (A) Intestinal permeability assay: Plasma DX-4000–FITC (μg/ml) oral challenge measured in ob/ob mice fed a normal diet (Ob-CT), non-prebiotic control diet (Ob-Cell), prebiotic diet (Ob-Pre) for 5 weeks. The inset corresponds to the area under curve (AUC) in the same groups. (B) Plasma endotoxin (LPS) concentrations (EU/ml); the inset corresponds to correlation between plasma LPS levels and plasma DX-4000–FITC (Pearson’s r correlation and corresponding p value). (C,F) Jejunum epithelial tight-junction protein markers (ZO-1 and occludin mRNA concentrations) relative expression to Ob-CT. Data are mean with the SEM. Data with different superscript letters are significantly different (p&lt;0.05), according to the post hoc ANOVA statistical analysis. (D,G) Correlations between intestinal permeability markers: plasma DX-4000–FITC and ZO-1 and occludin mRNA concentrations (p&lt;0.05); the inset corresponds to Pearson’s r correlation and corresponding p value. (E,H) Immunohistochemistry score of the jejunum epithelial tight-junction proteins (ZO-1 and occludin) in wild-type (CT), Ob-CT, Ob-Cell or Ob-Pre mice. DX-4000, dextran of molecular weight 4000 Da; EU, endotoxin unit; FITC, fluroescein isothiocyanate; LPS, lipopolysaccharid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rebiotic treatment changes tight-junction proteins distribution. Representative immunofluorescence staining for (A) ZO-1 and (B) occludin in ob/ob mice fed a normal diet (Ob-CT), non-prebiotic control diet (Ob-Cell), prebiotic diet (Ob-Pre) for 5 weeks. WT, wild-typ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rebiotic treatment reduces the occurrence of systemic inflammation. (A) IL1α, (B) IL1b, (C) TNFα, (D) MCP-1, (E) MIP-1a, (F) INFγ, (G) IL6, (H) IL10, (I) IL18 and (J) IL15 plasma levels (pg/ml) in ob/ob mice fed a normal diet (Ob-CT), non-prebiotic control diet (Ob-Cell) or prebiotic diet (Ob-Pre) for 5 weeks. Data are mean with the SEM. Data with different superscript letters are significantly different (p&lt;0.05), according to the post hoc ANOVA statistical analysis. IFN, interferon; IL, interleukin; MCP-1, monocyte chemoattratant protein-1; MIP-1a, macrophage inflammatory protein-1a; TNF, tumour necrosis facto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hanges in the gut microbiota control hepatic inflammation, oxidative stress and macrophage infiltration markers. (A,I) Inflammation: PAI-1, TNFα mRNA concentrations; (B,J) Macrophage infiltration markers: CD68, TLR4 mRNA concentrations; (E,F) Oxidative stress markers: NADPHox, iNOS mRNA concentrations in ob/ob mice fed a normal diet (Ob-CT), non-prebiotic control diet (Ob-Cell) or prebiotic diet (Ob-Pre) for 5 weeks. Data are mean with the SEM. Data with different superscript letters are significantly different (p&lt;0.05), according to the post hoc ANOVA statistical analysis. Correlations between liver NADPHox mRNA and (C) liver CD68 mRNA, (D) TLR4 mRNA or (K) plasma MCP-1 levels. Correlations between plasma MCP-1 and (H) liver CD68 mRNA or (L) TLR4 mRNA. (G) Correlation between liver CD68 mRNA and TLR4 mRNA concentrations (p&lt;0.05) the inset corresponds to Pearson’s r correlation and corresponding p value. iNOS, inducible nitric oxide synthase; MCP-1, monocyte chemoattractant protein-1; NADPHox, NADPH oxidase; PAI-1, plasminogen activator inhibitor; TLR, toll-like receptor; TNF, tumour necrosis facto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rebiotic administration increases intestinal proglucagon mRNA and correlates with intestinal permeability markers. (A) Jejunum proglucagon mRNA concentrations; (B) proximal colon proglucagon mRNA concentrations in ob/ob mice fed a normal diet (Ob-CT), non-prebiotic control diet (Ob-Cell), prebiotic diet (Ob-Pre) for 5 weeks. Data are mean with the SEM. Data with different superscript letters are significantly different (p&lt;0.05), according to the post hoc ANOVA statistical analysis. Correlations between plasma GLP-2 levels and (C) plasma LPS plasma; or (D) DX-4000–FITC plasma levels. Correlations between proglucagon mRNA and (E) jejunum ZO-1 or (F) occludin mRNA concentrations; the inset corresponds to Pearson’s r correlation and corresponding p value. DX 4000, dextran of molecular weight 4000 Da; FITC, fluorescein isothiocyanate; GLP-2, glucogon-like protein-2; LPS, lipopolysacchari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hronic GLP-2 antagonist treatment blunts prebiotic-induced reduction in endotoxaemia and hepatic inflammatory tone. (A) Plasma LPS concentrations (EU/ml); (B,D) Macrophage infiltration markers: TLR4, CD68mRNA concentrations; (C,E) oxidative stress markers: NADPHox, iNOS mRNA concentrations; (F,G) hepatic inflammation: PAI-1, TNFα mRNA concentrations; (H) jejunum epithelial tight-junction protein markers (ZO-1 and occludin mRNA) concentrations; (I) jejunum proglucagon mRNA concentrations in ob/ob mice fed a normal diet and injected twice daily with a saline (Ob-CT), prebiotic diet and injected twice daily with a saline (Ob-Pre), prebiotic diet and injected twice daily with GLP-2 antagonist (ObPre-Ant), normal diet and injected twice daily with GLP-2 antagonist (Ob-Ant) for 4 weeks. Data are mean with the SEM. *Significantly different (p&lt;0.05) from Ob-CT and Ob-Pre-Ant according to the Kruskal–Wallis test analysis. Data with different superscript letters are significantly different (p&lt;0.05), according to the post hoc ANOVA statistical analysis. EU, endotoxin unit; GLP-2, glucagon-like protein-2; iNOS, inducible nitric oxide synthase; NADPHox, NADPH oxidase; PAI-1, plasminogen activator inhibitor-1; PG, proglucagon; TJ, tight junction; TLR, toll-like receptor; TNF, tumour necrosis facto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hronic GLP-2 treatment lowers endotoxaemia, improves gut permeability markers, and reduces systemic and hepatic inflammation, oxidative stress and macrophage infiltration markers. (A) Plasma LPS concentrations (EU/ml); Cytokines and chemokines plasma levels (pg/ml): (B) IL1α; (C) IL10; (D) MIP-1a; (E) MCP-1; (F,J) hepatic inflammation: TNFα, PAI-1 mRNA concentrations; (G,I) macrophage infiltration markers: TLR4, CD68mRNA concentrations; (H,K) oxidative stress markers: iNOS, NADPHox mRNA; (L) immunohistochemistry score and (M) representative immunofluorescence staining of the jejunum epithelial tight-junction proteins (ZO-1 and occludin) measured in ob/ob mice injected twice daily with a saline vehicle (Ob-CT) or GLP-2 (Ob-GLP-2) for 12 days. Data are mean with the SEM. *Significantly different (p&lt;0.05) from Ob-CT mice according to the two-tailed Student t test. EU, endotoxin unit; GLP-2, glucogon-like protein-2; iNOS, inducible nitric oxide synthase; IL, interleukin; LPS, lipopolysaccharide; MCP-1, monocyte chemoattractant protein-1; MIP-1a, macrophage inflammatory protein-1a; NADPHox, NADPH oxidase; TLR, toll-like receptor; TNF, tumour necrosis facto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Changes in gut microbiota control inflammation in obese mice through a mechanism involving GLP-2-driven improvement of gut permeability</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P D Cani, S Possemiers, T Van de Wiele, Y Guiot, A Everard, O Rottier, L Geurts, D Naslain, A Neyrinck, D M Lambert, G G Muccioli, and N M Delzenne</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Gut</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58(8):1091-1103</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uly 10, 2009</a:t>
            </a:r>
            <a:endParaRPr b="0" lang="en-US" sz="1800" spc="-1" strike="noStrike">
              <a:solidFill>
                <a:srgbClr val="000000"/>
              </a:solidFill>
              <a:latin typeface="Times New Roman"/>
            </a:endParaRPr>
          </a:p>
        </p:txBody>
      </p:sp>
      <p:sp>
        <p:nvSpPr>
          <p:cNvPr id="44" name=""/>
          <p:cNvSpPr/>
          <p:nvPr/>
        </p:nvSpPr>
        <p:spPr>
          <a:xfrm>
            <a:off x="108000" y="7289640"/>
            <a:ext cx="7559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BMJ Publishing Group Ltd &amp; British Society of Gastroenterology. All rights reserved.</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8748720" y="6840360"/>
            <a:ext cx="900000" cy="576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rebiotic-associated changes in the gut microbiota.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8748720" y="6840360"/>
            <a:ext cx="900000" cy="576360"/>
          </a:xfrm>
          <a:prstGeom prst="rect">
            <a:avLst/>
          </a:prstGeom>
          <a:ln w="0">
            <a:noFill/>
          </a:ln>
        </p:spPr>
      </p:pic>
      <p:pic>
        <p:nvPicPr>
          <p:cNvPr id="48" name="" descr=""/>
          <p:cNvPicPr/>
          <p:nvPr/>
        </p:nvPicPr>
        <p:blipFill>
          <a:blip r:embed="rId2"/>
          <a:stretch/>
        </p:blipFill>
        <p:spPr>
          <a:xfrm>
            <a:off x="2262240" y="1079640"/>
            <a:ext cx="5562720" cy="5394240"/>
          </a:xfrm>
          <a:prstGeom prst="rect">
            <a:avLst/>
          </a:prstGeom>
          <a:ln w="0">
            <a:noFill/>
          </a:ln>
        </p:spPr>
      </p:pic>
      <p:sp>
        <p:nvSpPr>
          <p:cNvPr id="49" name=""/>
          <p:cNvSpPr/>
          <p:nvPr/>
        </p:nvSpPr>
        <p:spPr>
          <a:xfrm>
            <a:off x="22622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P D Cani et al. Gut 2009;58:1091-1103</a:t>
            </a:r>
            <a:endParaRPr b="0" lang="en-US" sz="1200" spc="-1" strike="noStrike">
              <a:solidFill>
                <a:srgbClr val="000000"/>
              </a:solidFill>
              <a:latin typeface="Times New Roman"/>
            </a:endParaRPr>
          </a:p>
        </p:txBody>
      </p:sp>
      <p:sp>
        <p:nvSpPr>
          <p:cNvPr id="50" name=""/>
          <p:cNvSpPr/>
          <p:nvPr/>
        </p:nvSpPr>
        <p:spPr>
          <a:xfrm>
            <a:off x="108000" y="7289640"/>
            <a:ext cx="7559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BMJ Publishing Group Ltd &amp; British Society of Gastroenterology. All rights reserved.</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rebiotic treatment reduces intestinal permeability.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8748720" y="6840360"/>
            <a:ext cx="900000" cy="576360"/>
          </a:xfrm>
          <a:prstGeom prst="rect">
            <a:avLst/>
          </a:prstGeom>
          <a:ln w="0">
            <a:noFill/>
          </a:ln>
        </p:spPr>
      </p:pic>
      <p:pic>
        <p:nvPicPr>
          <p:cNvPr id="53" name="" descr=""/>
          <p:cNvPicPr/>
          <p:nvPr/>
        </p:nvPicPr>
        <p:blipFill>
          <a:blip r:embed="rId2"/>
          <a:stretch/>
        </p:blipFill>
        <p:spPr>
          <a:xfrm>
            <a:off x="1574640" y="1079640"/>
            <a:ext cx="6936120" cy="5394240"/>
          </a:xfrm>
          <a:prstGeom prst="rect">
            <a:avLst/>
          </a:prstGeom>
          <a:ln w="0">
            <a:noFill/>
          </a:ln>
        </p:spPr>
      </p:pic>
      <p:sp>
        <p:nvSpPr>
          <p:cNvPr id="54" name=""/>
          <p:cNvSpPr/>
          <p:nvPr/>
        </p:nvSpPr>
        <p:spPr>
          <a:xfrm>
            <a:off x="15746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P D Cani et al. Gut 2009;58:1091-1103</a:t>
            </a:r>
            <a:endParaRPr b="0" lang="en-US" sz="1200" spc="-1" strike="noStrike">
              <a:solidFill>
                <a:srgbClr val="000000"/>
              </a:solidFill>
              <a:latin typeface="Times New Roman"/>
            </a:endParaRPr>
          </a:p>
        </p:txBody>
      </p:sp>
      <p:sp>
        <p:nvSpPr>
          <p:cNvPr id="55" name=""/>
          <p:cNvSpPr/>
          <p:nvPr/>
        </p:nvSpPr>
        <p:spPr>
          <a:xfrm>
            <a:off x="108000" y="7289640"/>
            <a:ext cx="7559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BMJ Publishing Group Ltd &amp; British Society of Gastroenterology. All rights reserved.</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rebiotic treatment changes tight-junction proteins distribution.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8748720" y="6840360"/>
            <a:ext cx="900000" cy="576360"/>
          </a:xfrm>
          <a:prstGeom prst="rect">
            <a:avLst/>
          </a:prstGeom>
          <a:ln w="0">
            <a:noFill/>
          </a:ln>
        </p:spPr>
      </p:pic>
      <p:pic>
        <p:nvPicPr>
          <p:cNvPr id="58" name="" descr=""/>
          <p:cNvPicPr/>
          <p:nvPr/>
        </p:nvPicPr>
        <p:blipFill>
          <a:blip r:embed="rId2"/>
          <a:stretch/>
        </p:blipFill>
        <p:spPr>
          <a:xfrm>
            <a:off x="3279600" y="1079640"/>
            <a:ext cx="3524400" cy="5394240"/>
          </a:xfrm>
          <a:prstGeom prst="rect">
            <a:avLst/>
          </a:prstGeom>
          <a:ln w="0">
            <a:noFill/>
          </a:ln>
        </p:spPr>
      </p:pic>
      <p:sp>
        <p:nvSpPr>
          <p:cNvPr id="59" name=""/>
          <p:cNvSpPr/>
          <p:nvPr/>
        </p:nvSpPr>
        <p:spPr>
          <a:xfrm>
            <a:off x="32796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P D Cani et al. Gut 2009;58:1091-1103</a:t>
            </a:r>
            <a:endParaRPr b="0" lang="en-US" sz="1200" spc="-1" strike="noStrike">
              <a:solidFill>
                <a:srgbClr val="000000"/>
              </a:solidFill>
              <a:latin typeface="Times New Roman"/>
            </a:endParaRPr>
          </a:p>
        </p:txBody>
      </p:sp>
      <p:sp>
        <p:nvSpPr>
          <p:cNvPr id="60" name=""/>
          <p:cNvSpPr/>
          <p:nvPr/>
        </p:nvSpPr>
        <p:spPr>
          <a:xfrm>
            <a:off x="108000" y="7289640"/>
            <a:ext cx="7559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BMJ Publishing Group Ltd &amp; British Society of Gastroenterology. All rights reserved.</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rebiotic treatment reduces the occurrence of systemic inflammation.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8748720" y="6840360"/>
            <a:ext cx="900000" cy="576360"/>
          </a:xfrm>
          <a:prstGeom prst="rect">
            <a:avLst/>
          </a:prstGeom>
          <a:ln w="0">
            <a:noFill/>
          </a:ln>
        </p:spPr>
      </p:pic>
      <p:pic>
        <p:nvPicPr>
          <p:cNvPr id="63" name="" descr=""/>
          <p:cNvPicPr/>
          <p:nvPr/>
        </p:nvPicPr>
        <p:blipFill>
          <a:blip r:embed="rId2"/>
          <a:stretch/>
        </p:blipFill>
        <p:spPr>
          <a:xfrm>
            <a:off x="3720960" y="1079640"/>
            <a:ext cx="2643480" cy="5394240"/>
          </a:xfrm>
          <a:prstGeom prst="rect">
            <a:avLst/>
          </a:prstGeom>
          <a:ln w="0">
            <a:noFill/>
          </a:ln>
        </p:spPr>
      </p:pic>
      <p:sp>
        <p:nvSpPr>
          <p:cNvPr id="64" name=""/>
          <p:cNvSpPr/>
          <p:nvPr/>
        </p:nvSpPr>
        <p:spPr>
          <a:xfrm>
            <a:off x="37209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P D Cani et al. Gut 2009;58:1091-1103</a:t>
            </a:r>
            <a:endParaRPr b="0" lang="en-US" sz="1200" spc="-1" strike="noStrike">
              <a:solidFill>
                <a:srgbClr val="000000"/>
              </a:solidFill>
              <a:latin typeface="Times New Roman"/>
            </a:endParaRPr>
          </a:p>
        </p:txBody>
      </p:sp>
      <p:sp>
        <p:nvSpPr>
          <p:cNvPr id="65" name=""/>
          <p:cNvSpPr/>
          <p:nvPr/>
        </p:nvSpPr>
        <p:spPr>
          <a:xfrm>
            <a:off x="108000" y="7289640"/>
            <a:ext cx="7559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BMJ Publishing Group Ltd &amp; British Society of Gastroenterology. All rights reserved.</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hanges in the gut microbiota control hepatic inflammation, oxidative stress and macrophage infiltration markers.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8748720" y="6840360"/>
            <a:ext cx="900000" cy="576360"/>
          </a:xfrm>
          <a:prstGeom prst="rect">
            <a:avLst/>
          </a:prstGeom>
          <a:ln w="0">
            <a:noFill/>
          </a:ln>
        </p:spPr>
      </p:pic>
      <p:pic>
        <p:nvPicPr>
          <p:cNvPr id="68" name="" descr=""/>
          <p:cNvPicPr/>
          <p:nvPr/>
        </p:nvPicPr>
        <p:blipFill>
          <a:blip r:embed="rId2"/>
          <a:stretch/>
        </p:blipFill>
        <p:spPr>
          <a:xfrm>
            <a:off x="1065240" y="1079640"/>
            <a:ext cx="7953480" cy="5394240"/>
          </a:xfrm>
          <a:prstGeom prst="rect">
            <a:avLst/>
          </a:prstGeom>
          <a:ln w="0">
            <a:noFill/>
          </a:ln>
        </p:spPr>
      </p:pic>
      <p:sp>
        <p:nvSpPr>
          <p:cNvPr id="69" name=""/>
          <p:cNvSpPr/>
          <p:nvPr/>
        </p:nvSpPr>
        <p:spPr>
          <a:xfrm>
            <a:off x="10652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P D Cani et al. Gut 2009;58:1091-1103</a:t>
            </a:r>
            <a:endParaRPr b="0" lang="en-US" sz="1200" spc="-1" strike="noStrike">
              <a:solidFill>
                <a:srgbClr val="000000"/>
              </a:solidFill>
              <a:latin typeface="Times New Roman"/>
            </a:endParaRPr>
          </a:p>
        </p:txBody>
      </p:sp>
      <p:sp>
        <p:nvSpPr>
          <p:cNvPr id="70" name=""/>
          <p:cNvSpPr/>
          <p:nvPr/>
        </p:nvSpPr>
        <p:spPr>
          <a:xfrm>
            <a:off x="108000" y="7289640"/>
            <a:ext cx="7559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BMJ Publishing Group Ltd &amp; British Society of Gastroenterology. All rights reserved.</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rebiotic administration increases intestinal proglucagon mRNA and correlates with intestinal permeability markers.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8748720" y="6840360"/>
            <a:ext cx="900000" cy="576360"/>
          </a:xfrm>
          <a:prstGeom prst="rect">
            <a:avLst/>
          </a:prstGeom>
          <a:ln w="0">
            <a:noFill/>
          </a:ln>
        </p:spPr>
      </p:pic>
      <p:pic>
        <p:nvPicPr>
          <p:cNvPr id="73" name="" descr=""/>
          <p:cNvPicPr/>
          <p:nvPr/>
        </p:nvPicPr>
        <p:blipFill>
          <a:blip r:embed="rId2"/>
          <a:stretch/>
        </p:blipFill>
        <p:spPr>
          <a:xfrm>
            <a:off x="739800" y="1603440"/>
            <a:ext cx="8604360" cy="4344840"/>
          </a:xfrm>
          <a:prstGeom prst="rect">
            <a:avLst/>
          </a:prstGeom>
          <a:ln w="0">
            <a:noFill/>
          </a:ln>
        </p:spPr>
      </p:pic>
      <p:sp>
        <p:nvSpPr>
          <p:cNvPr id="7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P D Cani et al. Gut 2009;58:1091-1103</a:t>
            </a:r>
            <a:endParaRPr b="0" lang="en-US" sz="1200" spc="-1" strike="noStrike">
              <a:solidFill>
                <a:srgbClr val="000000"/>
              </a:solidFill>
              <a:latin typeface="Times New Roman"/>
            </a:endParaRPr>
          </a:p>
        </p:txBody>
      </p:sp>
      <p:sp>
        <p:nvSpPr>
          <p:cNvPr id="75" name=""/>
          <p:cNvSpPr/>
          <p:nvPr/>
        </p:nvSpPr>
        <p:spPr>
          <a:xfrm>
            <a:off x="108000" y="7289640"/>
            <a:ext cx="7559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BMJ Publishing Group Ltd &amp; British Society of Gastroenterology. All rights reserved.</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hronic GLP-2 antagonist treatment blunts prebiotic-induced reduction in endotoxaemia and hepatic inflammatory tone.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8748720" y="6840360"/>
            <a:ext cx="900000" cy="576360"/>
          </a:xfrm>
          <a:prstGeom prst="rect">
            <a:avLst/>
          </a:prstGeom>
          <a:ln w="0">
            <a:noFill/>
          </a:ln>
        </p:spPr>
      </p:pic>
      <p:pic>
        <p:nvPicPr>
          <p:cNvPr id="78" name="" descr=""/>
          <p:cNvPicPr/>
          <p:nvPr/>
        </p:nvPicPr>
        <p:blipFill>
          <a:blip r:embed="rId2"/>
          <a:stretch/>
        </p:blipFill>
        <p:spPr>
          <a:xfrm>
            <a:off x="1457280" y="1079640"/>
            <a:ext cx="7172280" cy="5394240"/>
          </a:xfrm>
          <a:prstGeom prst="rect">
            <a:avLst/>
          </a:prstGeom>
          <a:ln w="0">
            <a:noFill/>
          </a:ln>
        </p:spPr>
      </p:pic>
      <p:sp>
        <p:nvSpPr>
          <p:cNvPr id="79" name=""/>
          <p:cNvSpPr/>
          <p:nvPr/>
        </p:nvSpPr>
        <p:spPr>
          <a:xfrm>
            <a:off x="14572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P D Cani et al. Gut 2009;58:1091-1103</a:t>
            </a:r>
            <a:endParaRPr b="0" lang="en-US" sz="1200" spc="-1" strike="noStrike">
              <a:solidFill>
                <a:srgbClr val="000000"/>
              </a:solidFill>
              <a:latin typeface="Times New Roman"/>
            </a:endParaRPr>
          </a:p>
        </p:txBody>
      </p:sp>
      <p:sp>
        <p:nvSpPr>
          <p:cNvPr id="80" name=""/>
          <p:cNvSpPr/>
          <p:nvPr/>
        </p:nvSpPr>
        <p:spPr>
          <a:xfrm>
            <a:off x="108000" y="7289640"/>
            <a:ext cx="7559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BMJ Publishing Group Ltd &amp; British Society of Gastroenterology. All rights reserved.</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hronic GLP-2 treatment lowers endotoxaemia, improves gut permeability markers, and reduces systemic and hepatic inflammation, oxidative stress and macrophage infiltration markers.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8748720" y="6840360"/>
            <a:ext cx="900000" cy="576360"/>
          </a:xfrm>
          <a:prstGeom prst="rect">
            <a:avLst/>
          </a:prstGeom>
          <a:ln w="0">
            <a:noFill/>
          </a:ln>
        </p:spPr>
      </p:pic>
      <p:pic>
        <p:nvPicPr>
          <p:cNvPr id="83" name="" descr=""/>
          <p:cNvPicPr/>
          <p:nvPr/>
        </p:nvPicPr>
        <p:blipFill>
          <a:blip r:embed="rId2"/>
          <a:stretch/>
        </p:blipFill>
        <p:spPr>
          <a:xfrm>
            <a:off x="2255760" y="1079640"/>
            <a:ext cx="5573880" cy="5394240"/>
          </a:xfrm>
          <a:prstGeom prst="rect">
            <a:avLst/>
          </a:prstGeom>
          <a:ln w="0">
            <a:noFill/>
          </a:ln>
        </p:spPr>
      </p:pic>
      <p:sp>
        <p:nvSpPr>
          <p:cNvPr id="84" name=""/>
          <p:cNvSpPr/>
          <p:nvPr/>
        </p:nvSpPr>
        <p:spPr>
          <a:xfrm>
            <a:off x="22557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P D Cani et al. Gut 2009;58:1091-1103</a:t>
            </a:r>
            <a:endParaRPr b="0" lang="en-US" sz="1200" spc="-1" strike="noStrike">
              <a:solidFill>
                <a:srgbClr val="000000"/>
              </a:solidFill>
              <a:latin typeface="Times New Roman"/>
            </a:endParaRPr>
          </a:p>
        </p:txBody>
      </p:sp>
      <p:sp>
        <p:nvSpPr>
          <p:cNvPr id="85" name=""/>
          <p:cNvSpPr/>
          <p:nvPr/>
        </p:nvSpPr>
        <p:spPr>
          <a:xfrm>
            <a:off x="108000" y="7289640"/>
            <a:ext cx="7559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BMJ Publishing Group Ltd &amp; British Society of Gastroenterology. All rights reserved.</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